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AE9A-22DD-4BEB-859B-EFDAB95B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5F76-A5F8-4F14-B061-7C7D9A36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CC4D-A24B-48B4-AD5B-B63F4026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FFCE-392D-4A56-935C-483B2F79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6379-7F1E-4448-9045-7601E526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487E-F417-4837-8867-16ACA118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EA0F-D993-443F-AA84-6D2ADD16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F015-DD59-4D72-B61C-A342D81E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2574-91D5-4D0B-8586-28C5A211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72BF-408A-480E-BDE7-AC6DA567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713E-54B4-497D-B6EB-2A65C5AB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192-237B-4267-9C81-F1408097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F423-A4FA-421F-A830-45AD1B65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D321-07C8-4D2B-AA42-B2E0B435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4926-858C-42C8-976A-02B388F3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64E0-EF6C-445A-914B-F87185A9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5D08-7562-4C40-8E1D-3CF8B7CE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44E2-AF26-459A-A3AC-C0E037F9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6AA-BE54-476E-A1F8-FB350209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F47F-EF02-4F6A-87F9-806C0125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361C-A02C-4430-819F-96F2717E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7909-AD1E-4313-97A1-A5B321D8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6AE-6757-41B0-9C8B-7A8073DF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6618-D6EE-4EFF-887C-8A60BC83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5030-B812-4784-8788-E2D825627B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992B-45C0-4A87-AC07-B366B9C7741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Bible Quiz Score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219320" y="2286000"/>
          <a:ext cx="7086600" cy="4281480"/>
        </p:xfrm>
        <a:graphic>
          <a:graphicData uri="http://schemas.openxmlformats.org/drawingml/2006/table">
            <a:tbl>
              <a:tblPr/>
              <a:tblGrid>
                <a:gridCol w="1417680"/>
                <a:gridCol w="1417320"/>
                <a:gridCol w="1416240"/>
                <a:gridCol w="1417680"/>
                <a:gridCol w="14176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e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ound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ound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ound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Bible Quiz Score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219320" y="2286000"/>
          <a:ext cx="7086600" cy="4281480"/>
        </p:xfrm>
        <a:graphic>
          <a:graphicData uri="http://schemas.openxmlformats.org/drawingml/2006/table">
            <a:tbl>
              <a:tblPr/>
              <a:tblGrid>
                <a:gridCol w="1417680"/>
                <a:gridCol w="1417320"/>
                <a:gridCol w="1416240"/>
                <a:gridCol w="1417680"/>
                <a:gridCol w="14176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e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ound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ound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ound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9T00:20:56Z</dcterms:created>
  <dc:creator>John White</dc:creator>
  <dc:description/>
  <dc:language>en-US</dc:language>
  <cp:lastModifiedBy>John White</cp:lastModifiedBy>
  <dcterms:modified xsi:type="dcterms:W3CDTF">2014-03-25T22:51:23Z</dcterms:modified>
  <cp:revision>3</cp:revision>
  <dc:subject/>
  <dc:title>GCC Bible Quiz Scores</dc:title>
</cp:coreProperties>
</file>